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D3E-2532-46C3-9686-54D27A5A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362-B5DE-4231-9B4E-07645239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B6E0D-1A9D-4D69-B67C-58057D4F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C354-1280-4C09-8DDA-2D6C4D52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5402-BC50-4AAE-8B0F-CEA9A43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AA067-6BB0-472B-8793-4B50D84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D64A4-2378-4620-A42F-792D8B8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BBBC-3C1B-4F2F-BBDC-D8F8230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21921-3F7D-4EAD-BE28-01404A4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D36EB-CDA2-44FE-96B9-76AFE44E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DDAC-A96E-4FB3-A92B-04421D88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DE4-CC9E-4A7C-BC37-48E07D2E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FF8-31B7-409D-AF1B-C52C46C4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AE85-2B50-4763-920C-E541EFF5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1904-AB52-413F-BB60-E31962E0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34A5-7EC1-412F-9A50-C05B7AA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F09-6B4F-4965-BF34-5176926E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75DC-1ADF-4BA1-B000-35060BA9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3130-315A-4862-815F-D523174B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135-0FBF-4137-A79F-CEF7682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8DB-FF76-474B-A9D6-35A208AC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573D-D033-4982-B664-8CD6A45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2AB1-8E51-4192-ABAB-975E729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7F1-E579-4512-81A2-0A1C795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B297-DDB6-4C27-8969-5C0B64D6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F8D9-B953-4F89-844D-0426FBB3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9223-2A0B-4C9B-B65E-2682E72C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13EA-9CCD-4A79-9A2D-F34A4E1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283A-A89E-4E1F-AD9F-DBC81C1D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6D76-BCFD-4962-93E9-26E037CC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59F9-3758-4693-919D-D5979438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84F-0CA3-4261-8966-76F4862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266E-0AD4-46A7-8073-0BE9633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DDA6-12BC-46F9-B0DE-E2FFFCC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1748-7092-47C9-A5A9-E91BB6BC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8D92-03EC-4AC9-9147-68045B5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BAD6-BC2B-428B-87B1-0C2A73F7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8C10-F515-4887-9A0C-D9601D6B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94C5-48A7-4744-AFF2-16938047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B8FB-CC8E-4A79-A7F0-CB7F4E3F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E451-C7F7-449B-BF7E-8B189175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4DB7-47F3-4B68-87A4-C32D1F8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48A-7908-4808-8F9F-98E6997C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208A-2D92-45B3-9E4E-DD2D37B0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2BD0-1E17-42F1-9ED6-A741764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4182-93A2-4B4B-AEA6-37D591F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3B88-EF61-4783-9C07-614EC9A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B939-0DE5-4E42-9355-3F5ADEB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E64E-4AD0-4912-8517-A8C8F3D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B8DB-433D-4E4A-BF55-EC3C55E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BCCF-CC8E-4110-BED2-31D25628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FDBF-3560-4E68-9852-B3F7BD5B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7ECD-C255-4813-AA86-D714BFE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2CF-AEA9-4737-9E13-81CBA41E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FE48-8668-4821-8F04-3597BF3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08E1-1862-467D-B01D-1D1E1FE3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8D25-4F20-4B47-B85F-5A627451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3738-CD27-4FB3-8E53-0A5C098E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EF56-D603-4AB0-83DB-1AA4AE8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C7DA-8413-4CE1-B5A3-ECCB8BF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304B-5B0A-42FA-AD6C-23A00D8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C729-C48D-42CF-B602-B6ED8F7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9DC0-2E7F-43E5-A529-55FE1397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76D8-DC4B-48C5-ADC8-0A291039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8A6-002A-41AC-9A97-EA846FB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A411-C9C9-4EC7-B4C8-768FF81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CD910-A19B-49B0-950E-6CF4206A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5F20-9BB8-40EA-B4C5-DE0DCF86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9E86-C3B7-4763-8A76-E25C5A37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2D9B-CDD3-462A-8BE9-0F89F41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43DE7-6DBF-4676-9612-82A67DDA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87A29-1DDC-4A31-A227-1D5C41F9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87DD-1E16-4D25-B3C5-3C05E94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2C1E-FCE7-4A2D-945B-D89F987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4E74A-675B-4CE2-A1C2-79E9D00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D2C-5DD7-4CC3-A99E-9BD5006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45306-DC3C-47D8-8BB2-454B8DF5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BF85-4159-416B-890F-1A991FCF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2ADC-797E-445B-80E2-8762FBFD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2BA57-6869-4BB5-9CA1-EDBBF5A2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968C-0B83-4D5A-AE52-BEB9C08B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43A7-5AE8-4B6F-A470-D4A76F3F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E570E-8CEC-42F5-AABA-D3D4700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FAF3-9203-4052-BFC2-58AA468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5666-241F-4661-B782-B0A2E207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B13A-9BF6-4407-BF5D-AC443E0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924-6713-4C29-BFD6-05AF50C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A2331-CCBE-47D9-BA87-F00BD97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7273E-4864-41EA-B05C-8266E76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EBE3-953A-47AB-A096-151D152C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480B1-0F4A-4D1B-81AF-440E7757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6AF14-7EA7-4091-8A72-2E22FCC0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04C5-BEF7-4434-B6B4-F78747A3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E0E50-3456-4071-B92E-C4DAE27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EEC6-F94C-43B4-BC6A-3AC3F80E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87747-4264-4679-BF33-EBBF7E5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F5123-B3BD-41E5-A683-80B4DAB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E31-AABE-4084-A9CA-6E59DFE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CA3C-CCC9-404F-ADC0-1594AB0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57613-451E-49E5-A449-7FFE9E5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4B78-E8F1-4237-8D69-6AED063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8C62C-3615-4703-BE16-D62B305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03078-793D-4BC6-BC6E-AB41C6D0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2055-DAE4-4942-859B-8B5192C5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8E98A-113E-4F20-A09D-F889F5C9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4AD8C-F2AF-4107-B0A5-47959A19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140E-DE95-42DC-8D9C-2CA4F6A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1C8DE-48AC-4233-8762-C1E7B1DC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BD27-9AB9-4491-80AF-0D3EC69C2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CD56-B825-4F74-8008-AA792F67DB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6816-8BBE-4290-AE2B-8D9D5AFC91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3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4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4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5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BDF-0AAC-440D-893B-76EDBCD927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1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1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3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3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4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4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4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8DFA-F7F8-4396-9C7E-05A99E30F9B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9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0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A0D2-D8A5-486C-B3DD-4638866BFE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5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E4F-06EF-4CE8-8758-D6A82126D5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56E4-25CF-4661-A9B7-52573C3B67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7B40-03F4-44B9-8D6C-975C57477A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Six-Step-Start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Analyze the 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Mark the 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d6d6d"/>
                          </a:solidFill>
                          <a:latin typeface="Arial"/>
                        </a:rPr>
                        <a:t>50/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24240" y="336996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Test Pr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ix-Step-Start-Up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1: 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Skim the title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2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Make Prediction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3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Read 1</a:t>
            </a:r>
            <a:r>
              <a:rPr b="0" lang="en-US" sz="3800" spc="-1" strike="noStrike" baseline="30000">
                <a:solidFill>
                  <a:srgbClr val="2f1311"/>
                </a:solidFill>
                <a:latin typeface="Arial"/>
              </a:rPr>
              <a:t>st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&amp; last pars. or 1</a:t>
            </a:r>
            <a:r>
              <a:rPr b="0" lang="en-US" sz="3800" spc="-1" strike="noStrike" baseline="30000">
                <a:solidFill>
                  <a:srgbClr val="2f1311"/>
                </a:solidFill>
                <a:latin typeface="Arial"/>
              </a:rPr>
              <a:t>st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&amp; last sentences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4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Make new prediction based on new info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5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Scan question stems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1311"/>
                </a:solidFill>
                <a:latin typeface="Arial"/>
              </a:rPr>
              <a:t>Step 6:</a:t>
            </a:r>
            <a:r>
              <a:rPr b="0" lang="en-US" sz="3800" spc="-1" strike="noStrike">
                <a:solidFill>
                  <a:srgbClr val="2f1311"/>
                </a:solidFill>
                <a:latin typeface="Arial"/>
              </a:rPr>
              <a:t> Make final prediction</a:t>
            </a:r>
            <a:endParaRPr b="0" lang="en-US" sz="3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nalyze the Ques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Underl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in Topic of th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Question (MTQ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ircl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gative words  (not, no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fixes meaning no, etc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uble underl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qualifying word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Best, Most, Leas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Questio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the Question: Thi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question is asking me to (use verb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rain Dump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 What do I know abou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s top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rk the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paragraph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ircle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y words or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Underlin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the passages tha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re relevant to the questions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ing as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50/5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ading the passage, reread the question and answers, then eliminate two answers that do not sound right, do not make sense, or do not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9:06:32Z</dcterms:created>
  <dc:creator>Nvasquez</dc:creator>
  <dc:description/>
  <dc:language>en-US</dc:language>
  <cp:lastModifiedBy>Nvasquez</cp:lastModifiedBy>
  <dcterms:modified xsi:type="dcterms:W3CDTF">2010-03-08T15:46:30Z</dcterms:modified>
  <cp:revision>8</cp:revision>
  <dc:subject/>
  <dc:title>Use a piece of blank paper to create your own “Piece of the Pie” foldable. </dc:title>
</cp:coreProperties>
</file>